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70871-386A-42A4-8C9F-BF691FA078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DBB12-C88F-4D6F-888C-ACF41849A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79C90-41CA-4205-BA27-C4AA4D07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F4065-30A7-4428-A838-6167E84C27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D7B78-0B99-41EB-BB27-4B8F9127A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4960F-8E1B-488A-9680-16A3E1A12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35350-1ED2-495E-924D-A665E139A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7405D-AD3C-40F2-8FED-F12D48642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0EDE9-C6BF-4C23-9C99-8FD714F52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8D44E-C0CA-496D-B349-683357350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D4959-0EC9-482F-B3AF-2E0058A6C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F2774-8D70-466D-AF06-B97A09350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859CE-1D18-4F56-9316-7CE9C6BC17B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51160"/>
              <a:ext cx="9115560" cy="1806480"/>
              <a:chOff x="28440" y="5051160"/>
              <a:chExt cx="9115560" cy="180648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51160"/>
                <a:ext cx="9115560" cy="1806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5116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2840"/>
              <a:chOff x="0" y="468900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24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200"/>
                <a:ext cx="9097920" cy="35928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2286000"/>
            <a:ext cx="671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十一章  泌尿系统肿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肾癌，拟行根治性肾切除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 与长期血尿、癌肿消耗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  与对癌症和手术的恐惧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感染、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umor of bladd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泌尿系统最常见的肿瘤。好发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男性多于女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的危险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致癌物质的长期接触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胱慢性感染与异物长期刺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长期大量服用镇痛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2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发现全程无痛肉眼血尿伴血凝块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。吸烟史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日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镜检查：膀胱三角区有一直径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凸出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尿：是膀胱癌最常见和最早出现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转移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患者无明显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诊断膀胱癌最重要的检查手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脱落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肾癌、膀胱癌的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概括肾癌、膀胱癌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阐述肾癌、膀胱癌的处理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泌尿系统肿瘤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烟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工作环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治疗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尿道膀胱肿瘤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ansurethral resection of bladder tumo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B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：是所有膀胱肿瘤治疗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部分切除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膀胱全切术：是膀胱浸润性癌的基本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化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灌注化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  与担心肿瘤预后不良、害怕手术、担心如厕方式改变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 与长期血尿、癌肿消耗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  与膀胱全切术后尿流改道、存在造瘘口或引流装置以及不能主动排尿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出血、感染、尿瘘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2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膀胱癌，拟行根治性膀胱全切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壁造瘘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手术后，面对排尿方式的改变应如何做好护理工作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56760" y="12855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瘘患者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膀胱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瘘口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灌注化疗的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我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位新膀胱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肾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可能与吸烟、肥胖、职业接触、遗传因素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典型表现为血尿、疼痛和肿块，被称为肾癌三联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以手术治疗为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术前护理应注意心理护理和营养支持护理；术后护理包括安置适当体位、病情观察、饮食与营养、引流管的护理、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可能与职业接触、吸烟、膀胱慢性感染、异物长期刺激、长期大量服用镇痛药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典型表现为全程无痛肉眼血尿，血尿常间歇出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以手术治疗为主，辅以化疗和放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包括心理护理、饮食与营养、肠道准备、造瘘患者准备。术后护理包括观察病情、饮食与营养、膀胱冲洗、代膀胱冲洗、造瘘口护理、引流管的护理、并发症的观察与护理和膀胱灌注化疗的护理。另外，还要做好健康教育促进患者适应术后生活、防止癌症复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肾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nal carcinom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又称肾腺癌或肾细胞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nal cell carcinoma, RC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。占成人恶性肿瘤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发病高峰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男女之比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无明显的种族差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血尿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8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／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／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5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身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68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体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8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腹壁软，无压痛、反跳痛，肠鸣音正常，无移动性浊音，余未见异常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：右肾上极有一个直径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占位性病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尿、疼痛和肿块：即肾癌三联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副癌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转移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增大，消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404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普查肾肿瘤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肾肿瘤最可靠的影像学诊断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年龄和性别、职业、吸烟史、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和肥胖、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家族史、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相关疾病史、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用药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肾切除术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肾癌最主要的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肾切除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免疫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58:01Z</dcterms:modified>
  <cp:revision>112</cp:revision>
  <dc:subject/>
  <dc:title>内科护理学</dc:title>
</cp:coreProperties>
</file>